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7D71-B0E0-4D07-9350-3CB8BD56B2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0FD2-333C-4CDD-8523-303B3E6F7F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DF58-BAD2-400D-A766-527DF74E92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351F-F10E-49AF-84EE-6630BBC8AF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CCAF-9D52-4D24-A231-565FF42186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AFBC-B7B1-47E8-9399-E05B0AA36A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1E84-2B88-453A-9C5D-2023653EBB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C17E-114C-427A-AFE0-9FB97E22CF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868C-D185-4479-82FC-AB8D28ACA3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BAF4-675F-4396-8EB4-A948BF4439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4B91-7A11-431D-AD05-C3BA6DCB0B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F04C-0942-4AFB-9E68-8DE900F6B6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A84A-2B2E-45E1-A93F-E943BF46FD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1748-3625-41BA-BFBC-6FEE19AFF6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276C-8CCB-4418-A9B5-21DE194483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056F-5F4B-4976-8055-65E6FE9E48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1DD7-CD8C-44E3-BF66-B932F1ACD2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05DB-3F18-4411-8482-B846E1E3D0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02F-A345-45AD-81D2-E0DA027C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9A2-F9D4-44CE-853A-F862EE26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A4C-B29D-43FA-9452-DBADEACD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1DF-AE59-4875-85D2-768606B9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7B6-05AA-438F-9318-B0374868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B51-98FD-4BA5-83D6-7F494C06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7CE-333B-4B20-9BF5-D00327E9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512-A9EC-4613-843E-8BA930CA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DB7-BD6D-4E56-9557-171BCCE7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A63-D9E4-4D0B-85F1-F88CD7C1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858-6EF3-45E9-A3AE-2A7507C9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E08-0641-48CF-87A8-6017AEC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C04C-3D1A-4FA8-B732-DD35D481DFA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88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99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0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Calibri"/>
              </a:rPr>
              <a:t>Zaměření projektu na ženy v předdůchodovém vě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zda a v jaké míře 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jektem podpořeny ženy v předdůchodovém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ezi osoby předdůchodového věku se řadí lidé, kteří přesáhli věkovou hranici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50 le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do dosažení hranice odchodu do dů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) Mezi cílovými skupinami projektu není zařazena cílová skupina ženy v předdůchodovém věk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) Cílová skupina ženy v předdůchodovém věku jsou jednou z několika cílových skupin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1 b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Cílová skupina ženy v předdůchodovém věku jsou jedinou cílovou skupinou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31720" y="1909800"/>
            <a:ext cx="681120" cy="369720"/>
          </a:xfrm>
          <a:prstGeom prst="rightArrow">
            <a:avLst>
              <a:gd name="adj1" fmla="val 50000"/>
              <a:gd name="adj2" fmla="val 49835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3"/>
          <p:cNvSpPr/>
          <p:nvPr/>
        </p:nvSpPr>
        <p:spPr>
          <a:xfrm>
            <a:off x="531720" y="246204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1 bod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7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1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2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3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4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88 by mělo být zlepšení situace  v prosazování rovných příležitostí žen a mužů na trhu práce a ve sladění pracovního a rodinného života. Zohlednění Evropského roku aktivního stárnutí a mezigenerační solidar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3-20T13:00:14Z</dcterms:modified>
  <cp:revision>1013</cp:revision>
  <dc:subject/>
  <dc:title>Snímek 1</dc:title>
</cp:coreProperties>
</file>